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F47-09F9-4F2B-B990-588725A1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E93-59AB-46C0-AB58-6EB7F60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5A0-8261-4FCA-866F-FCCC0B96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313-A1F4-440A-8377-4416B4E7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E8E3-F403-42F4-A26E-B57A5B4E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1E9D-3D28-4AB7-B5D3-4BC00FC1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9A3C-3905-402D-B209-BD7B104C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E1D6-B480-47FE-8049-6452DD4B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2CB2-32DC-4EFA-BB0D-C8A057A4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102F-95F1-4961-A0BB-4FA7B72A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B6BF-DFDD-4E60-897D-70DE7B81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C33-EC46-4846-B21B-0D6C52E9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7270-F02C-4481-BA2B-2AF9E2B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7DB0-C3E2-409D-9A72-C9DA5D38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1375-8315-4DDE-ACEC-B7B430F0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60E0-2EE2-47BB-A113-9DC17F25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5D5C-5422-4B58-B07B-A7163628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FE2-292B-4BAF-8777-A59172C1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B17-8553-4467-81CD-04CE061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EE1-EA7B-440D-B19B-7A6EAAB0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B4D-77B3-4B8F-B673-ED11954F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890-510D-44FE-BB09-1A138DE0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695-64C0-4EB6-BE42-93A638D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2B4-2904-4BF0-8A1F-DEA70DF3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CF1D-B3FC-4D38-B712-582F1404B05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94ED-F056-4B7E-A83A-9110A87A8DF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O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relessness:mistakes::_________:________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ite the relationship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s-Examp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ctions:consequen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lationship is cause and effe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cused Freewri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f you could spend one year in perfect happiness but afterward you would remember nothing of the experience would you do so? If not, why no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Vocabulary Practi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I were given the choice between staying home and going to Springfield, I would choose the second ________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e you ever committed a _______ and regretted it lat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ur treasurer was given _____ of the financial record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an airplane even the highest building seemed ________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flowers were ______ in the wint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Great Gatsb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142640"/>
            <a:ext cx="7386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Write a summary of the beginning of ch. 3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Do partner imagery activity-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Must be someone you haven’t worked with before.</a:t>
            </a:r>
            <a:r>
              <a:rPr b="0" lang="en-US" sz="4400" spc="-1" strike="noStrike">
                <a:solidFill>
                  <a:srgbClr val="2f1311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Great Gatsby-Journal Response (1 Paragraph)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21896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ave you ever attended a party or social event where you only knew one or two people? Nick says he felt compelled to attach himself to someone. Write about a time you felt like this, or why you never feel like this. 1 Par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mework-Finish Ch. 3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28:07Z</dcterms:created>
  <dc:creator>rebecca</dc:creator>
  <dc:description/>
  <dc:language>en-US</dc:language>
  <cp:lastModifiedBy>rebecca</cp:lastModifiedBy>
  <dcterms:modified xsi:type="dcterms:W3CDTF">2009-02-18T19:18:04Z</dcterms:modified>
  <cp:revision>2</cp:revision>
  <dc:subject/>
  <dc:title>DOA</dc:title>
</cp:coreProperties>
</file>